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BAF-92CF-487D-9360-8B2303A4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97C-0160-4E2E-B265-C7FFCFF1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182-3E5F-4D6E-A13E-52DF91DB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A07-F8E3-45F7-A3C7-65B02A6D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382-56FD-4590-B170-663A167C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4E3-18C4-47F9-A844-50FE83C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61F-BC5C-459A-B151-01DB3D85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6B1-079F-41E0-AE14-CC890060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03A-A99D-4331-9057-EF98971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1F3-BECA-4657-8644-9E1CA03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75E-733A-4F25-BDB9-B083F91D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226-45B2-44BF-BA5F-94F8C62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CEC5-4C7C-4C37-8442-72C2A2966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7 Ó poďme a chváľ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š je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 poďme a chváľ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ho Spasit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išiel sem z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vôli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neho dúf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inie sa ci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š j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hválospev vrúc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besiam sa vzná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 Kristovi k ze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kláň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isto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á nádej na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š j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Pánovi od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a, česť a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vesť o ňom le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šetkých st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elý svet n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chválu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4:05Z</dcterms:modified>
  <cp:revision>31</cp:revision>
  <dc:subject/>
  <dc:title>Je veľký náš Pán, on slávy je Kráľ Nech do všetkých strán  spev vrúcnych znie chvál.</dc:title>
</cp:coreProperties>
</file>